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wmf" ContentType="image/x-wmf"/>
  <Override PartName="/ppt/media/image3.png" ContentType="image/png"/>
  <Override PartName="/ppt/media/image5.png" ContentType="image/png"/>
  <Override PartName="/ppt/media/image10.png" ContentType="image/png"/>
  <Override PartName="/ppt/media/image21.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50168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8D8C-25DB-402A-A53D-6CD14634A5F0}"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8986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86FC-41C3-4093-9A06-72249019E3A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32448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Analysis</a:t>
            </a:r>
            <a:endParaRPr b="0" lang="en-US" sz="1200" spc="-1" strike="noStrike">
              <a:solidFill>
                <a:srgbClr val="000000"/>
              </a:solidFill>
              <a:latin typeface="Arial"/>
            </a:endParaRPr>
          </a:p>
        </p:txBody>
      </p:sp>
      <p:sp>
        <p:nvSpPr>
          <p:cNvPr id="54" name="Text Box 9"/>
          <p:cNvSpPr/>
          <p:nvPr/>
        </p:nvSpPr>
        <p:spPr>
          <a:xfrm>
            <a:off x="7653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7493-6E9D-4EA3-A214-FB4DD313A1EC}"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65844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D4C7-E54F-478C-85D1-2C513A1D1C0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ergie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Kinsey Study of Promised and Realised Synergie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5" descr=""/>
          <p:cNvPicPr/>
          <p:nvPr/>
        </p:nvPicPr>
        <p:blipFill>
          <a:blip r:embed="rId1"/>
          <a:stretch/>
        </p:blipFill>
        <p:spPr>
          <a:xfrm>
            <a:off x="1371600" y="1371600"/>
            <a:ext cx="7234200" cy="4667400"/>
          </a:xfrm>
          <a:prstGeom prst="rect">
            <a:avLst/>
          </a:prstGeom>
          <a:ln w="0">
            <a:noFill/>
          </a:ln>
        </p:spPr>
      </p:pic>
      <p:pic>
        <p:nvPicPr>
          <p:cNvPr id="120" name="Picture 6" descr=""/>
          <p:cNvPicPr/>
          <p:nvPr/>
        </p:nvPicPr>
        <p:blipFill>
          <a:blip r:embed="rId2"/>
          <a:stretch/>
        </p:blipFill>
        <p:spPr>
          <a:xfrm>
            <a:off x="2971800" y="1981080"/>
            <a:ext cx="2438280" cy="1685880"/>
          </a:xfrm>
          <a:prstGeom prst="rect">
            <a:avLst/>
          </a:prstGeom>
          <a:ln w="0">
            <a:noFill/>
          </a:ln>
        </p:spPr>
      </p:pic>
      <p:sp>
        <p:nvSpPr>
          <p:cNvPr id="121" name="Text Box 7"/>
          <p:cNvSpPr/>
          <p:nvPr/>
        </p:nvSpPr>
        <p:spPr>
          <a:xfrm>
            <a:off x="380880" y="1752480"/>
            <a:ext cx="1143000" cy="3030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measure synergies after the f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synergies more reliable than the revenue growth synergies</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in Different Types of Mergers</a:t>
            </a:r>
            <a:endParaRPr b="1" lang="en-US" sz="2000" spc="-1" strike="noStrike">
              <a:solidFill>
                <a:srgbClr val="000000"/>
              </a:solidFill>
              <a:latin typeface="Arial"/>
            </a:endParaRPr>
          </a:p>
        </p:txBody>
      </p:sp>
      <p:pic>
        <p:nvPicPr>
          <p:cNvPr id="123" name="Picture 4" descr=""/>
          <p:cNvPicPr/>
          <p:nvPr/>
        </p:nvPicPr>
        <p:blipFill>
          <a:blip r:embed="rId1"/>
          <a:stretch/>
        </p:blipFill>
        <p:spPr>
          <a:xfrm>
            <a:off x="1424160" y="1523880"/>
            <a:ext cx="576252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of stock returns around merger announcements generally conclude that the value of the combined firm does increase in most takeovers and that the increase is significant.</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ley, Desai, and Kim (1988) examined a sample of 236 inter-firms tender offers between 1963 and 1984 and reported that the </a:t>
            </a:r>
            <a:r>
              <a:rPr b="1" i="1" lang="en-US" sz="1800" spc="-1" strike="noStrike">
                <a:solidFill>
                  <a:srgbClr val="3399ff"/>
                </a:solidFill>
                <a:latin typeface="Arial"/>
              </a:rPr>
              <a:t>combined value of the target and bidder firms increased 7.48%</a:t>
            </a:r>
            <a:r>
              <a:rPr b="0" lang="en-US" sz="1800" spc="-1" strike="noStrike">
                <a:solidFill>
                  <a:srgbClr val="000000"/>
                </a:solidFill>
                <a:latin typeface="Arial"/>
              </a:rPr>
              <a:t> ($117 million in 1984 dollars), on average, on the announcement of the merger. </a:t>
            </a:r>
            <a:endParaRPr b="0" lang="en-US" sz="1800" spc="-1" strike="noStrike">
              <a:solidFill>
                <a:srgbClr val="000000"/>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9, KPMG examined 700 of the most expensive deals between 1996 and 1998 and concluded that </a:t>
            </a:r>
            <a:r>
              <a:rPr b="1" i="1" lang="en-US" sz="1800" spc="-1" strike="noStrike">
                <a:solidFill>
                  <a:srgbClr val="3399ff"/>
                </a:solidFill>
                <a:latin typeface="Arial"/>
              </a:rPr>
              <a:t>only 17% created value for the combined firm</a:t>
            </a:r>
            <a:r>
              <a:rPr b="0" lang="en-US" sz="1800" spc="-1" strike="noStrike">
                <a:solidFill>
                  <a:srgbClr val="000000"/>
                </a:solidFill>
                <a:latin typeface="Arial"/>
              </a:rPr>
              <a:t>, 30% were value neutral and 53% destroyed value.</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4191120" y="3733920"/>
            <a:ext cx="2743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do exist</a:t>
            </a:r>
            <a:endParaRPr b="0" lang="en-US" sz="1200" spc="-1" strike="noStrike">
              <a:solidFill>
                <a:srgbClr val="000000"/>
              </a:solidFill>
              <a:latin typeface="Arial"/>
            </a:endParaRPr>
          </a:p>
        </p:txBody>
      </p:sp>
      <p:sp>
        <p:nvSpPr>
          <p:cNvPr id="127" name="Text Box 5"/>
          <p:cNvSpPr/>
          <p:nvPr/>
        </p:nvSpPr>
        <p:spPr>
          <a:xfrm>
            <a:off x="4114800" y="5334120"/>
            <a:ext cx="30481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less than premium</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eller and Schlingemann (2004) broke down 4430 acquisitions between 1985 and 1995 into cross border and domestic acquisitions and conclude that U.S. acquirers overpay more in cross border acquisitions and have lower stock price and operating performance in the post-acquisition period. </a:t>
            </a:r>
            <a:r>
              <a:rPr b="1" i="1" lang="en-US" sz="1400" spc="-1" strike="noStrike">
                <a:solidFill>
                  <a:srgbClr val="3399ff"/>
                </a:solidFill>
                <a:latin typeface="Arial"/>
              </a:rPr>
              <a:t>They attribute this to acquirers over estimating the value of synergy in cross border mergers or under estimating the difficulty of delivering this synerg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23 looked at the eight largest bank mergers in 1995 and concluded that only two (Chase/Chemical, First Chicago/NBD) subsequently outperformed the bank-stock index. The largest, Wells Fargo’s acquisition of First Interstate, was a significant failur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damaging piece of evidence on the outcome of acquisitions is the large number of acquisitions that are reversed within fairly short time periods. Mitchell and Lehn note that 20.2% of the acquisitions made between 1982 and 1986 were divested by 1988. 25 Studies that have tracked acquisitions for longer time periods (ten years or more) have found </a:t>
            </a:r>
            <a:r>
              <a:rPr b="1" i="1" lang="en-US" sz="1400" spc="-1" strike="noStrike">
                <a:solidFill>
                  <a:srgbClr val="3399ff"/>
                </a:solidFill>
                <a:latin typeface="Arial"/>
              </a:rPr>
              <a:t>the divestiture rate of acquisitions rises to almost 50%,</a:t>
            </a:r>
            <a:r>
              <a:rPr b="0" lang="en-US" sz="1400" spc="-1" strike="noStrike">
                <a:solidFill>
                  <a:srgbClr val="000000"/>
                </a:solidFill>
                <a:latin typeface="Arial"/>
              </a:rPr>
              <a:t> suggesting that few firms enjoy the promised benefits from acquisitions. In another study, Kaplan and Weisbach (1992) found that 44% of the mergers they studied were reversed, largely because the acquirer paid too much or because the operations of the two firms did not mesh.</a:t>
            </a:r>
            <a:endParaRPr b="0" lang="en-US" sz="1400" spc="-1" strike="noStrike">
              <a:solidFill>
                <a:srgbClr val="000000"/>
              </a:solidFill>
              <a:latin typeface="Arial"/>
            </a:endParaRPr>
          </a:p>
        </p:txBody>
      </p:sp>
      <p:sp>
        <p:nvSpPr>
          <p:cNvPr id="130" name="Text Box 4"/>
          <p:cNvSpPr/>
          <p:nvPr/>
        </p:nvSpPr>
        <p:spPr>
          <a:xfrm>
            <a:off x="3124080" y="5257800"/>
            <a:ext cx="37339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anies have been divested, then the synergies have not been realized, you get more from selling the company than keeping the synergie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al World Synergy Analysis</a:t>
            </a:r>
            <a:endParaRPr b="1" lang="en-US" sz="2000" spc="-1" strike="noStrike">
              <a:solidFill>
                <a:srgbClr val="000000"/>
              </a:solidFill>
              <a:latin typeface="Arial"/>
            </a:endParaRPr>
          </a:p>
        </p:txBody>
      </p:sp>
      <p:pic>
        <p:nvPicPr>
          <p:cNvPr id="132"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Implement with Attrition</a:t>
            </a:r>
            <a:endParaRPr b="1" lang="en-US" sz="2000" spc="-1" strike="noStrike">
              <a:solidFill>
                <a:srgbClr val="000000"/>
              </a:solidFill>
              <a:latin typeface="Arial"/>
            </a:endParaRPr>
          </a:p>
        </p:txBody>
      </p:sp>
      <p:pic>
        <p:nvPicPr>
          <p:cNvPr id="13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Synergi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fini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is the additional value that is generated by combining two firms, creating opportunities that </a:t>
            </a:r>
            <a:r>
              <a:rPr b="1" i="1" lang="en-US" sz="1800" spc="-1" strike="noStrike">
                <a:solidFill>
                  <a:srgbClr val="000000"/>
                </a:solidFill>
                <a:latin typeface="Arial"/>
              </a:rPr>
              <a:t>would not been available to these firms operating independently</a:t>
            </a:r>
            <a:r>
              <a:rPr b="0" lang="en-US" sz="1800" spc="-1" strike="noStrike">
                <a:solidFill>
                  <a:srgbClr val="000000"/>
                </a:solidFill>
                <a:latin typeface="Arial"/>
              </a:rPr>
              <a:t>. It is the most widely used and misused rationale in mergers and acquisitio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e increase in performance of the combined firm over what the two firms are already expected to accomplish as independent firm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definition: 1 + 1 = 3</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A+B) &gt; PV(A) + PV(B)</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bout definition: If am I willing to pay 6 for the business market-valued at 5 there has to be the Synergy justifying the premium.</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echnical definition: Synergy is ability of merged company to generate higher shareholders wealth than the standalone entities</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Efficiencies based upon the close integration of specific, hard-to-trade assets owned by the merging part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st savings or revenue enhancements can be obtained without a merger, synergies do not exis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Synergies and Value Allocation</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ynergies do exist, then the next issue is whether the buying company or the target company achieves the synergies (recall the formula fundamental equation that synergies &gt; premium).  The allocation depends on the relative bargaining powe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Value to Target Company in Premium</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ny acquirer.  Examples are administrative costs, eliminating obvious value drains and cutting was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emic: Value to Target or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 few acquirers.  Generally in the same industry and/or geographic area.  Examples are economies of scale and redundant sales for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Value to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only one buyer (co-ownership of plant).  Combination of geographic, industry and product lines.  </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Definition and 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level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Macro Statistic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Detailed Analysi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udies of Merger Saving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Examples of Synerg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que versus Universal Synergie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unique to the acquiring firm, it will be able to demand a higher percentage of the synergy benefits. This will often be the case with locational synergies. When Bank of America acquired Security Pacific in the late 1990s, a major cost saving item was the overlapping branches that these banks had in California specifically and on the West Coast more generally. It is unlikely that any other large bank (other than Bank of America) would have been able to generate the same savings, thus giving Bank of America an advantage in the bidding proces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more general and would be available to any other peer group firm, the target firm stockholders are likely to receive a larger share of the benefits. This would be the case, for instance, in a merger of two consumer product firms where the primary cost savings will come from integrating the advertising departments and saving on the resulting cost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nergie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anaged target (e.g. SG&amp;A cost/customer)</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gains from capacity utilisation</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economies of scope, critical mas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l unproductive assets that are retained by management who cannot or will not shed such value destroying business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gains</a:t>
            </a:r>
            <a:endParaRPr b="0" lang="en-US" sz="16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ing</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network</a:t>
            </a:r>
            <a:endParaRPr b="0" lang="en-US" sz="14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ower</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Exxon Mobil</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term Operating Synergies.  We believe we can run the combined company more efficiently than either company on its own.  Specifically, we expect the combined company to achieve about $2.8 billion in annual pre-tax benefits from operating synergies. By operating synergies we mean increases in production, sales, and efficiency, decreases in unit costs and overhead expense, and other benefits made possible by combining complementary operations. We expect to realize the full $2.8 billion in annual pre-tax synergy benefits </a:t>
            </a:r>
            <a:r>
              <a:rPr b="1" i="1" lang="en-US" sz="1200" spc="-1" strike="noStrike">
                <a:solidFill>
                  <a:srgbClr val="3399ff"/>
                </a:solidFill>
                <a:latin typeface="Arial"/>
              </a:rPr>
              <a:t>by the third year after the merger.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wo-thirds of these benefits should come from: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lining the combined organization, which we can run with less administrative and overhead cost than two separate organization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ing excess capacity, duplicate facilities, and redundant operations.</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ynergy benefits should come from: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for oil and gas more efficiently in regions where the companies operate separately today;</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each company's best business practices across the worldwide operations of the combined company;</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ng purchases of raw materials across the two companies' extensive supply, refining and chemicals networks. </a:t>
            </a:r>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response to sales force reductio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or response when integration is occur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gration costs and limited saving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optimistic appraisal of market potential and synergies (e.g. assume that product markets for acquirer will turn around or unrealistic vision about the value of corporate strateg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Due Diligence (over looking problems because of deadlines, in-experience or ignoring bad new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Issue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should b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ax</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at a rate that reflects risk</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free synergies for things like contract adjust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ure capital type discount rate for speculative revenue increa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lifetime of the synergies and terminal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cost to achie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d Level of Synergies</a:t>
            </a:r>
            <a:endParaRPr b="1"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rower Formula</a:t>
            </a:r>
            <a:endParaRPr b="1" lang="en-US" sz="2000" spc="-1" strike="noStrike">
              <a:solidFill>
                <a:srgbClr val="000000"/>
              </a:solidFill>
              <a:latin typeface="Arial"/>
            </a:endParaRPr>
          </a:p>
        </p:txBody>
      </p:sp>
      <p:sp>
        <p:nvSpPr>
          <p:cNvPr id="1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pay what  a firm is worth.  Therefore, the value of playing the acquisition game 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Synergy - Premiu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lieve a firm is mis-valued, just buy shares in the company on the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gt; Premium : Succes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t; Synergy &lt; Premium : Failur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lt;  0 : Disaster</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Valuation Formula in M&amp;A</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Value From Acquisition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acquirer and acquired firm after the acquisition - Value befo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r Value = Value Added - Cos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Transaction Cost + Acquisition Premiu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can be made without acquisi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a premium means there must be expected synergies that more than off-set the premium</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 Find Premium and Required Level of Synergies Relative to Reported Synergies</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 x shares x premium percent</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reported level of synergies – pre-ta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synerg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cost to achie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on after tax basis to compare to premium</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level of synergies compare to the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value of merger</a:t>
            </a:r>
            <a:endParaRPr b="0" lang="en-US" sz="16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lides below</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ellation and FPL Group expect the merger to generate potential pre-tax cost synergies of $200 million to $250 million for the combined company on an annualized basis by the end of 2009 (assuming completion of the merger on December 31, 2006 and excluding costs of integration). A substantial majority of these synergies are expected to come from the competitive energy businesses. These savings may not be realized within the time periods contemplated, or at all.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noted that the effective exchange ratio was 1.444x, resulting in an implied consideration to Constellation of $61.90 per share, based on a closing price of FPL Group common stock of $42.87 as of December 13, 2005.   Constellation has 180 million shares.  Price of $53.44</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1" name="Picture 4" descr=""/>
          <p:cNvPicPr/>
          <p:nvPr/>
        </p:nvPicPr>
        <p:blipFill>
          <a:blip r:embed="rId1"/>
          <a:stretch/>
        </p:blipFill>
        <p:spPr>
          <a:xfrm>
            <a:off x="2743200" y="3581280"/>
            <a:ext cx="3666960" cy="21243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ccess in M&amp;A and Synergie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synergies drive the success of M&amp;A for Buying Companies</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r Related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how to manage cos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possibly reduce competition</a:t>
            </a:r>
            <a:endParaRPr b="0" lang="en-US" sz="16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ing Company has Higher ROIC</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company can use best practices to reduce cost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cations of this finding is that synergies come from imposing best practices and improving cost efficiency of the target company and if there is a possibility to increase prices in a merger. </a:t>
            </a:r>
            <a:endParaRPr b="0" lang="en-US" sz="1800" spc="-1" strike="noStrike">
              <a:solidFill>
                <a:srgbClr val="000000"/>
              </a:solidFill>
              <a:latin typeface="Arial"/>
            </a:endParaRPr>
          </a:p>
        </p:txBody>
      </p:sp>
      <p:sp>
        <p:nvSpPr>
          <p:cNvPr id="103" name="Text Box 4"/>
          <p:cNvSpPr/>
          <p:nvPr/>
        </p:nvSpPr>
        <p:spPr>
          <a:xfrm>
            <a:off x="5943600" y="2286000"/>
            <a:ext cx="22096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ROIC of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OIC has been similar to your company, be careful about synergies</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ed cash flow analysis of BellSouth yielded an implied valuation range of BellSouth common shares of $27.84 to $48.80, excluding the impact of an estimated $18 billion of net present value of cost savings and revenue synergies estimated by AT&amp;T management to result from the transaction.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South shareholders will receive merger consideration consisting of a fixed number of 1.325 AT&amp;T common shares for each BellSouth common share they own. Based on the closing price of $27.99 per AT&amp;T common share, the last trading day before the public announcement of the merger, the exchange ratio represented approximately $37.09 per BellSouth common share, a 17.9% premium over the closing price of BellSouth common share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Picture 4" descr=""/>
          <p:cNvPicPr/>
          <p:nvPr/>
        </p:nvPicPr>
        <p:blipFill>
          <a:blip r:embed="rId1"/>
          <a:stretch/>
        </p:blipFill>
        <p:spPr>
          <a:xfrm>
            <a:off x="2286000" y="4724280"/>
            <a:ext cx="4734000" cy="1305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6" name="Picture 3" descr=""/>
          <p:cNvPicPr/>
          <p:nvPr/>
        </p:nvPicPr>
        <p:blipFill>
          <a:blip r:embed="rId1"/>
          <a:stretch/>
        </p:blipFill>
        <p:spPr>
          <a:xfrm>
            <a:off x="457200" y="1905120"/>
            <a:ext cx="8077320" cy="36795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8"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BP-Amoco Merger</a:t>
            </a:r>
            <a:endParaRPr b="1" lang="en-US" sz="2000" spc="-1" strike="noStrike">
              <a:solidFill>
                <a:srgbClr val="000000"/>
              </a:solidFill>
              <a:latin typeface="Arial"/>
            </a:endParaRPr>
          </a:p>
        </p:txBody>
      </p:sp>
      <p:sp>
        <p:nvSpPr>
          <p:cNvPr id="1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reviewed eleven selected comparable merger transactions and compared the implied premium to the relative market capitalization of the smaller entity. This analysis evidenced premiums in a range from 5.0% to 15.0% based on closing share prices on the day before the announcement of the transaction. The implied premium received by Amoco Shareholders upon receiving 40.0% ownership of the combined entity is 13.3%, also based on closing share prices on the day before announcement of the transaction. The premium received by Amoco Shareholders when measured over different time periods similarly matched the premiums indicated by comparable transactions when measured over the same time period.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Synergies</a:t>
            </a:r>
            <a:endParaRPr b="1"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Free Cash Flow Based</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lassify synergies into categories to discuss measurement – EBITDA – Capital Expenditur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perating Expenses and Capital Expenditur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es of Scal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Practic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tiliz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Increas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Growth) Increase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Reduction (Financi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Economies of Scale</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economies of scale – reduced average cost per unit when the total production increas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small a company, need billing systems, accounting, basic treasury etc.  These are fixed costs that can be spread over larger output with a merger.</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duplication or redundant cos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urchasing economies that come from ability to achieve lower input prices through greater bargaining power.</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est Practices</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the inefficiency of target companies.  Sometimes called X-efficiency or reduction of slack.</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 of capabilities across the two firms – acquiring company may have patents, different historic experience or other things to manage more efficiently.</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me from both companies – one company is good at making brakes and the second company is good at making gear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Capacity Optimization</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e production capacity across companies to allow more efficient capacity to be used firs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urplus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icient use of existing portfol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cost differenc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st curv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of capacity relative to dema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unique production processes</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Volume Growth</a:t>
            </a:r>
            <a:endParaRPr b="1" lang="en-US" sz="2000" spc="-1" strike="noStrike">
              <a:solidFill>
                <a:srgbClr val="000000"/>
              </a:solidFill>
              <a:latin typeface="Arial"/>
            </a:endParaRPr>
          </a:p>
        </p:txBody>
      </p:sp>
      <p:sp>
        <p:nvSpPr>
          <p:cNvPr id="1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can occur because the volume of unit sales is above the amount that could be received from the two companies on a standalone basis.  Examples includ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amp;D intensive company that does not have marketing know-how and/or does not have distribution capabilit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new products from components of products developed by Target and Acquire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lling of products where increased sales occur because of selling products together.</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Measurement of Synergie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easurement rather than strategic theory</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irtually no textbooks that discuss the mechanics of how to measure specific synergies.  Instead, there is a general discussion of strategic behavior and extending products or expanding market coverage.</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easuring synergies, the calculations must account for how the synergy can actually be achieved – for example, if there are staff reductions, will the reductions come from voluntary reduction, attrition etc.</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problems with no generic formulas for synergy, the discussion includ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classification of synergi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the synergy esti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measuring the synergy</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Price Increases</a:t>
            </a:r>
            <a:endParaRPr b="1" lang="en-US" sz="2000" spc="-1" strike="noStrike">
              <a:solidFill>
                <a:srgbClr val="000000"/>
              </a:solidFill>
              <a:latin typeface="Arial"/>
            </a:endParaRPr>
          </a:p>
        </p:txBody>
      </p:sp>
      <p:sp>
        <p:nvSpPr>
          <p:cNvPr id="1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occur in horizontal mergers where companies operate in the sam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pricing power – not in commodity business such as oil, mining et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when stock price of competing companies increases when the merger occu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uch hard evidence of market power in horizontal merger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from Consultants</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
          <p:cNvPicPr/>
          <p:nvPr/>
        </p:nvPicPr>
        <p:blipFill>
          <a:blip r:embed="rId1"/>
          <a:stretch/>
        </p:blipFill>
        <p:spPr>
          <a:xfrm>
            <a:off x="762120" y="1295280"/>
            <a:ext cx="5829120" cy="4705560"/>
          </a:xfrm>
          <a:prstGeom prst="rect">
            <a:avLst/>
          </a:prstGeom>
          <a:ln w="0">
            <a:noFill/>
          </a:ln>
        </p:spPr>
      </p:pic>
      <p:sp>
        <p:nvSpPr>
          <p:cNvPr id="187" name="Text Box 6"/>
          <p:cNvSpPr/>
          <p:nvPr/>
        </p:nvSpPr>
        <p:spPr>
          <a:xfrm>
            <a:off x="7391520" y="3048120"/>
            <a:ext cx="1371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Items of cost that represents potential for savings</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 Continued</a:t>
            </a:r>
            <a:endParaRPr b="1" lang="en-US" sz="2000" spc="-1" strike="noStrike">
              <a:solidFill>
                <a:srgbClr val="000000"/>
              </a:solidFill>
              <a:latin typeface="Arial"/>
            </a:endParaRPr>
          </a:p>
        </p:txBody>
      </p:sp>
      <p:sp>
        <p:nvSpPr>
          <p:cNvPr id="1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1"/>
          <a:stretch/>
        </p:blipFill>
        <p:spPr>
          <a:xfrm>
            <a:off x="1200240" y="1447920"/>
            <a:ext cx="6743520" cy="47386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Achieved</a:t>
            </a:r>
            <a:endParaRPr b="1" lang="en-US" sz="2000" spc="-1" strike="noStrike">
              <a:solidFill>
                <a:srgbClr val="000000"/>
              </a:solidFill>
              <a:latin typeface="Arial"/>
            </a:endParaRPr>
          </a:p>
        </p:txBody>
      </p:sp>
      <p:pic>
        <p:nvPicPr>
          <p:cNvPr id="192" name="Picture 3" descr="y28254y28254z0012"/>
          <p:cNvPicPr/>
          <p:nvPr/>
        </p:nvPicPr>
        <p:blipFill>
          <a:blip r:embed="rId1"/>
          <a:stretch/>
        </p:blipFill>
        <p:spPr>
          <a:xfrm>
            <a:off x="1143000" y="1523880"/>
            <a:ext cx="6162840" cy="461808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st Synergies</a:t>
            </a:r>
            <a:endParaRPr b="1" lang="en-US" sz="2000" spc="-1" strike="noStrike">
              <a:solidFill>
                <a:srgbClr val="000000"/>
              </a:solidFill>
              <a:latin typeface="Arial"/>
            </a:endParaRPr>
          </a:p>
        </p:txBody>
      </p:sp>
      <p:pic>
        <p:nvPicPr>
          <p:cNvPr id="194" name="Picture 3" descr="y27297k2y27297z0019"/>
          <p:cNvPicPr/>
          <p:nvPr/>
        </p:nvPicPr>
        <p:blipFill>
          <a:blip r:embed="rId1"/>
          <a:stretch/>
        </p:blipFill>
        <p:spPr>
          <a:xfrm>
            <a:off x="1066680" y="1047600"/>
            <a:ext cx="6782040" cy="50864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nd Network Synergies</a:t>
            </a:r>
            <a:endParaRPr b="1" lang="en-US" sz="2000" spc="-1" strike="noStrike">
              <a:solidFill>
                <a:srgbClr val="000000"/>
              </a:solidFill>
              <a:latin typeface="Arial"/>
            </a:endParaRPr>
          </a:p>
        </p:txBody>
      </p:sp>
      <p:pic>
        <p:nvPicPr>
          <p:cNvPr id="196" name="Picture 3" descr="y27297k2y27297z0017"/>
          <p:cNvPicPr/>
          <p:nvPr/>
        </p:nvPicPr>
        <p:blipFill>
          <a:blip r:embed="rId1"/>
          <a:stretch/>
        </p:blipFill>
        <p:spPr>
          <a:xfrm>
            <a:off x="1600200" y="1219320"/>
            <a:ext cx="6553080" cy="49147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ank Mergers</a:t>
            </a:r>
            <a:endParaRPr b="1" lang="en-US" sz="2000" spc="-1" strike="noStrike">
              <a:solidFill>
                <a:srgbClr val="000000"/>
              </a:solidFill>
              <a:latin typeface="Arial"/>
            </a:endParaRPr>
          </a:p>
        </p:txBody>
      </p:sp>
      <p:sp>
        <p:nvSpPr>
          <p:cNvPr id="1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Cost Cutting</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Market Share</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Product lin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into Attractive New Market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Managerial Capabilities, and Increased Financial Leverage </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nd Operating Leverag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of Synergies – Macro Synergie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s in Synergy Measurement</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 versus Micro Measur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versus Accounting Approac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stimates from Other Merg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of Realized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nnouncement versus After Announc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versus Best Practic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Measurement of Synergies – P/E Ratio</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all were value comes from – earning more than the cost of capital and growing – and use this to measure potential value of the merge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ay the target and the acquiring company are in very similar industries with similar cost of capital and with the potential to realize similar growth and earn similar returns.  The difference in P/E could be then argued to be due to management strategies and efficiencies.  The synergies from a merger can then be measured with differential P/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P/E Increment = Acquiring P/E - Existing Target P/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Increment x Target EPS = Value Creation After Tax</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reation After Tax = After Tax Synergy</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Debate</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potential for operating synergy, in one form or the other, in many takeover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isagreement exists, however, over whether synergy can be valued and, if so, what that value should be.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chool of thought argues that synergy is too nebulous to be valued and that any systematic attempt to do so requires so many assumptions that it is pointless. If this is true, a firm should not be willing to pay large premiums for synergy if it cannot attach a value to it.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chool of thought is that we have to make our best estimate of how much value synergy will create in any acquisition before we decide how much to pay for it, even though it requires assumptions about an uncertain future. </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2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and Value Creation Example</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performed an analysis comparing BP's and Amoco's price to earnings multiples ("P/E multiple") to those of Exxon and The Shell Transport &amp; Trading Company plc ("Shell T&amp;T") for the past five years.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nalysis indicated that BP and Amoco had been trading in the recent past at a 20% to 25% discount to both Exxon and Shell T&amp;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s analysis indicated that if BP and Amoco were to be valued at P/E multiples comparable to those of Exxon and Shell T&amp;T there would be significant enhancement of value to shareholders of BP and Amoco. J.P. Morgan pointed out that there could be no assurance that this value would be realized. </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ROIC Comparison</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operate in the same industry and have similar assets, they should be able to achieve similar returns.  If the acquiring company is earning higher returns than the target, one could argue that the target could apply its management techniques to the target and realize sav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acquirer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After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target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 NOPLAT</a:t>
            </a:r>
            <a:r>
              <a:rPr b="0" lang="en-US" sz="1800" spc="-1" strike="noStrike" baseline="-25000">
                <a:solidFill>
                  <a:srgbClr val="000000"/>
                </a:solidFill>
                <a:latin typeface="Arial"/>
              </a:rPr>
              <a:t>After Acquistion </a:t>
            </a:r>
            <a:r>
              <a:rPr b="0" lang="en-US" sz="1800" spc="-1" strike="noStrike">
                <a:solidFill>
                  <a:srgbClr val="000000"/>
                </a:solidFill>
                <a:latin typeface="Arial"/>
              </a:rPr>
              <a:t>-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on Invested Capital Difference to Measure Synergies</a:t>
            </a:r>
            <a:endParaRPr b="1" lang="en-US" sz="1800" spc="-1" strike="noStrike">
              <a:solidFill>
                <a:srgbClr val="000000"/>
              </a:solidFill>
              <a:latin typeface="Arial"/>
            </a:endParaRPr>
          </a:p>
        </p:txBody>
      </p:sp>
      <p:sp>
        <p:nvSpPr>
          <p:cNvPr id="2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23880" indent="-217440">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Tobin’s Q Ratio</a:t>
            </a:r>
            <a:endParaRPr b="1" lang="en-US" sz="2000" spc="-1" strike="noStrike">
              <a:solidFill>
                <a:srgbClr val="000000"/>
              </a:solidFill>
              <a:latin typeface="Arial"/>
            </a:endParaRPr>
          </a:p>
        </p:txBody>
      </p:sp>
      <p:sp>
        <p:nvSpPr>
          <p:cNvPr id="2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Q ratio which is defined as:</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Replacement Cost</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 ratio measures how much management is adding to the replacement cost of assets.  If management is adding nothing, the company should be liquidated and the company can be purchased for replacement cost.  If management is adding a lot, the Q ratio exceeds 1.0.</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cquiring company has a Q ratio of 2.0 and the target has a Q ratio of 1.5 and the companies are in the same industry, one could argue that the target company should achieve an increase from 1.5 to 2.0 from a merger:</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Value = (Q</a:t>
            </a:r>
            <a:r>
              <a:rPr b="0" lang="en-US" sz="1800" spc="-1" strike="noStrike" baseline="-25000">
                <a:solidFill>
                  <a:srgbClr val="000000"/>
                </a:solidFill>
                <a:latin typeface="Arial"/>
              </a:rPr>
              <a:t>Acquirer</a:t>
            </a:r>
            <a:r>
              <a:rPr b="0" lang="en-US" sz="1800" spc="-1" strike="noStrike">
                <a:solidFill>
                  <a:srgbClr val="000000"/>
                </a:solidFill>
                <a:latin typeface="Arial"/>
              </a:rPr>
              <a:t> – Q</a:t>
            </a:r>
            <a:r>
              <a:rPr b="0" lang="en-US" sz="1800" spc="-1" strike="noStrike" baseline="-25000">
                <a:solidFill>
                  <a:srgbClr val="000000"/>
                </a:solidFill>
                <a:latin typeface="Arial"/>
              </a:rPr>
              <a:t>Target</a:t>
            </a:r>
            <a:r>
              <a:rPr b="0" lang="en-US" sz="1800" spc="-1" strike="noStrike">
                <a:solidFill>
                  <a:srgbClr val="000000"/>
                </a:solidFill>
                <a:latin typeface="Arial"/>
              </a:rPr>
              <a:t>) x Replacement Cost</a:t>
            </a:r>
            <a:r>
              <a:rPr b="0" lang="en-US" sz="1800" spc="-1" strike="noStrike" baseline="-25000">
                <a:solidFill>
                  <a:srgbClr val="000000"/>
                </a:solidFill>
                <a:latin typeface="Arial"/>
              </a:rPr>
              <a:t>Targe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Synergy Analysis - Economies of Scale</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 – Economies of Scale</a:t>
            </a:r>
            <a:endParaRPr b="1" lang="en-US" sz="2000" spc="-1" strike="noStrike">
              <a:solidFill>
                <a:srgbClr val="000000"/>
              </a:solidFill>
              <a:latin typeface="Arial"/>
            </a:endParaRPr>
          </a:p>
        </p:txBody>
      </p:sp>
      <p:sp>
        <p:nvSpPr>
          <p:cNvPr id="216" name="PlaceHolder 2"/>
          <p:cNvSpPr>
            <a:spLocks noGrp="1"/>
          </p:cNvSpPr>
          <p:nvPr>
            <p:ph/>
          </p:nvPr>
        </p:nvSpPr>
        <p:spPr>
          <a:xfrm>
            <a:off x="761760" y="1523520"/>
            <a:ext cx="7467480" cy="3505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synergies from economies of scale, three methods can be us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by function analysis of the staffing levels before and after the merge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tive ratios with other companie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expense ratios relative to the level of sal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nction by function analysi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7" name="Picture 8" descr=""/>
          <p:cNvPicPr/>
          <p:nvPr/>
        </p:nvPicPr>
        <p:blipFill>
          <a:blip r:embed="rId1"/>
          <a:stretch/>
        </p:blipFill>
        <p:spPr>
          <a:xfrm>
            <a:off x="914400" y="3962520"/>
            <a:ext cx="7391520" cy="15732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 Example - Bank Mergers</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ank mergers were based on a dominant partner purchasing a weaker entity and realizing huge cost savings from the integration of overlapping operation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s for shareholders in mergers of equals are long-term and tend to hinge on whether the banks have enough overlapping operations to allow cost-slashing.</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data processing and backroom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iversification, and streamlining of investment departments and the securities portfolio</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the credit department, including loan documentation and preparation</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loan review and audit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branch delivery systems, including use of the Internet</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s and cost efficiencies</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 rapid consolidation has improved efficiency ratios in the U.S. banking industry, these benefits have yet to be realized by the largest banks as compared with other smaller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however, suggests that average unit costs are flat across different size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essentially represents prestige and financial power.</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Object 2" descr=""/>
          <p:cNvPicPr/>
          <p:nvPr/>
        </p:nvPicPr>
        <p:blipFill>
          <a:blip r:embed="rId1"/>
          <a:stretch/>
        </p:blipFill>
        <p:spPr>
          <a:xfrm>
            <a:off x="0" y="1600200"/>
            <a:ext cx="9063000" cy="5291280"/>
          </a:xfrm>
          <a:prstGeom prst="rect">
            <a:avLst/>
          </a:prstGeom>
          <a:ln w="0">
            <a:noFill/>
          </a:ln>
        </p:spPr>
      </p:pic>
      <p:grpSp>
        <p:nvGrpSpPr>
          <p:cNvPr id="223" name="Group 3"/>
          <p:cNvGrpSpPr/>
          <p:nvPr/>
        </p:nvGrpSpPr>
        <p:grpSpPr>
          <a:xfrm>
            <a:off x="609480" y="1295280"/>
            <a:ext cx="8305920" cy="182520"/>
            <a:chOff x="609480" y="1295280"/>
            <a:chExt cx="8305920" cy="182520"/>
          </a:xfrm>
        </p:grpSpPr>
        <p:sp>
          <p:nvSpPr>
            <p:cNvPr id="224" name="Rectangle 4"/>
            <p:cNvSpPr/>
            <p:nvPr/>
          </p:nvSpPr>
          <p:spPr>
            <a:xfrm>
              <a:off x="7086600" y="12952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5"/>
            <p:cNvSpPr/>
            <p:nvPr/>
          </p:nvSpPr>
          <p:spPr>
            <a:xfrm>
              <a:off x="609480" y="1371600"/>
              <a:ext cx="8305920" cy="0"/>
            </a:xfrm>
            <a:prstGeom prst="line">
              <a:avLst/>
            </a:prstGeom>
            <a:ln w="1908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26" name="PlaceHolder 1"/>
          <p:cNvSpPr>
            <a:spLocks noGrp="1"/>
          </p:cNvSpPr>
          <p:nvPr>
            <p:ph type="title"/>
          </p:nvPr>
        </p:nvSpPr>
        <p:spPr>
          <a:xfrm>
            <a:off x="304920" y="274320"/>
            <a:ext cx="8534160" cy="1173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performance measures by bank size, 1992 and 2001</a:t>
            </a:r>
            <a:endParaRPr b="1" lang="en-US" sz="1800" spc="-1" strike="noStrike">
              <a:solidFill>
                <a:srgbClr val="000000"/>
              </a:solidFill>
              <a:latin typeface="Arial"/>
            </a:endParaRPr>
          </a:p>
        </p:txBody>
      </p:sp>
      <p:sp>
        <p:nvSpPr>
          <p:cNvPr id="227" name="Text Box 7"/>
          <p:cNvSpPr/>
          <p:nvPr/>
        </p:nvSpPr>
        <p:spPr>
          <a:xfrm>
            <a:off x="6172200" y="228600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OE increases with size</a:t>
            </a:r>
            <a:endParaRPr b="0" lang="en-US" sz="1200" spc="-1" strike="noStrike">
              <a:solidFill>
                <a:srgbClr val="000000"/>
              </a:solidFill>
              <a:latin typeface="Arial"/>
            </a:endParaRPr>
          </a:p>
        </p:txBody>
      </p:sp>
      <p:sp>
        <p:nvSpPr>
          <p:cNvPr id="228" name="Line 8"/>
          <p:cNvSpPr/>
          <p:nvPr/>
        </p:nvSpPr>
        <p:spPr>
          <a:xfrm flipH="1">
            <a:off x="4190760" y="2590920"/>
            <a:ext cx="19047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9"/>
          <p:cNvSpPr/>
          <p:nvPr/>
        </p:nvSpPr>
        <p:spPr>
          <a:xfrm>
            <a:off x="6858000" y="274320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Problems in Measuring Synergies</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template or simple formula</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ademic literature uses strategic theory and statistical analysis of market power.</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virtually no literature on how to measure cost savings in pract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oints on measuring related to measuring synergies:</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ergy measurement depends on specific knowledge of the business and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their measurement is specific to a company or an industry and the computation is also specific to the company or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very limited when evaluating a transaction – not only do you not have little data on the target, but your own staff cannot evaluate the data (e.g. you may not be able to ask your IT staff to evaluate cost saving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231" name="Group 3"/>
          <p:cNvGrpSpPr/>
          <p:nvPr/>
        </p:nvGrpSpPr>
        <p:grpSpPr>
          <a:xfrm>
            <a:off x="1145880" y="1447920"/>
            <a:ext cx="7011000" cy="4589280"/>
            <a:chOff x="1145880" y="1447920"/>
            <a:chExt cx="7011000" cy="4589280"/>
          </a:xfrm>
        </p:grpSpPr>
        <p:sp>
          <p:nvSpPr>
            <p:cNvPr id="232" name="Text Box 4"/>
            <p:cNvSpPr/>
            <p:nvPr/>
          </p:nvSpPr>
          <p:spPr>
            <a:xfrm>
              <a:off x="6895800" y="144792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Years of capture</a:t>
              </a:r>
              <a:endParaRPr b="0" lang="en-US" sz="1200" spc="-1" strike="noStrike">
                <a:solidFill>
                  <a:srgbClr val="000000"/>
                </a:solidFill>
                <a:latin typeface="Arial"/>
              </a:endParaRPr>
            </a:p>
          </p:txBody>
        </p:sp>
        <p:grpSp>
          <p:nvGrpSpPr>
            <p:cNvPr id="233" name="Group 5"/>
            <p:cNvGrpSpPr/>
            <p:nvPr/>
          </p:nvGrpSpPr>
          <p:grpSpPr>
            <a:xfrm>
              <a:off x="1145880" y="1544400"/>
              <a:ext cx="6551280" cy="4492800"/>
              <a:chOff x="1145880" y="1544400"/>
              <a:chExt cx="6551280" cy="4492800"/>
            </a:xfrm>
          </p:grpSpPr>
          <p:grpSp>
            <p:nvGrpSpPr>
              <p:cNvPr id="234" name="Group 6"/>
              <p:cNvGrpSpPr/>
              <p:nvPr/>
            </p:nvGrpSpPr>
            <p:grpSpPr>
              <a:xfrm>
                <a:off x="1145880" y="1544400"/>
                <a:ext cx="6424560" cy="459000"/>
                <a:chOff x="1145880" y="1544400"/>
                <a:chExt cx="6424560" cy="459000"/>
              </a:xfrm>
            </p:grpSpPr>
            <p:sp>
              <p:nvSpPr>
                <p:cNvPr id="235" name="Text Box 7"/>
                <p:cNvSpPr/>
                <p:nvPr/>
              </p:nvSpPr>
              <p:spPr>
                <a:xfrm>
                  <a:off x="5877000" y="16077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36" name="Group 8"/>
                <p:cNvGrpSpPr/>
                <p:nvPr/>
              </p:nvGrpSpPr>
              <p:grpSpPr>
                <a:xfrm>
                  <a:off x="2720880" y="1639440"/>
                  <a:ext cx="2813040" cy="190080"/>
                  <a:chOff x="2720880" y="1639440"/>
                  <a:chExt cx="2813040" cy="190080"/>
                </a:xfrm>
              </p:grpSpPr>
              <p:sp>
                <p:nvSpPr>
                  <p:cNvPr id="237" name="Rectangle 9"/>
                  <p:cNvSpPr/>
                  <p:nvPr/>
                </p:nvSpPr>
                <p:spPr>
                  <a:xfrm>
                    <a:off x="2720880" y="163944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10"/>
                  <p:cNvSpPr/>
                  <p:nvPr/>
                </p:nvSpPr>
                <p:spPr>
                  <a:xfrm>
                    <a:off x="4984560" y="163944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9" name="Text Box 11"/>
                <p:cNvSpPr/>
                <p:nvPr/>
              </p:nvSpPr>
              <p:spPr>
                <a:xfrm>
                  <a:off x="3475080" y="16077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80</a:t>
                  </a:r>
                  <a:endParaRPr b="0" lang="en-US" sz="1400" spc="-1" strike="noStrike">
                    <a:solidFill>
                      <a:srgbClr val="000000"/>
                    </a:solidFill>
                    <a:latin typeface="Arial"/>
                  </a:endParaRPr>
                </a:p>
              </p:txBody>
            </p:sp>
            <p:sp>
              <p:nvSpPr>
                <p:cNvPr id="240" name="Text Box 12"/>
                <p:cNvSpPr/>
                <p:nvPr/>
              </p:nvSpPr>
              <p:spPr>
                <a:xfrm>
                  <a:off x="1145880" y="1544400"/>
                  <a:ext cx="1619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cutive and gener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dministration</a:t>
                  </a:r>
                  <a:endParaRPr b="0" lang="en-US" sz="1200" spc="-1" strike="noStrike">
                    <a:solidFill>
                      <a:srgbClr val="000000"/>
                    </a:solidFill>
                    <a:latin typeface="Arial"/>
                  </a:endParaRPr>
                </a:p>
              </p:txBody>
            </p:sp>
            <p:sp>
              <p:nvSpPr>
                <p:cNvPr id="241" name="Text Box 13"/>
                <p:cNvSpPr/>
                <p:nvPr/>
              </p:nvSpPr>
              <p:spPr>
                <a:xfrm>
                  <a:off x="7313400" y="1621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42" name="Group 14"/>
              <p:cNvGrpSpPr/>
              <p:nvPr/>
            </p:nvGrpSpPr>
            <p:grpSpPr>
              <a:xfrm>
                <a:off x="1881000" y="1998720"/>
                <a:ext cx="5689080" cy="307080"/>
                <a:chOff x="1881000" y="1998720"/>
                <a:chExt cx="5689080" cy="307080"/>
              </a:xfrm>
            </p:grpSpPr>
            <p:sp>
              <p:nvSpPr>
                <p:cNvPr id="243" name="Text Box 15"/>
                <p:cNvSpPr/>
                <p:nvPr/>
              </p:nvSpPr>
              <p:spPr>
                <a:xfrm>
                  <a:off x="5876640" y="19987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44" name="Group 16"/>
                <p:cNvGrpSpPr/>
                <p:nvPr/>
              </p:nvGrpSpPr>
              <p:grpSpPr>
                <a:xfrm>
                  <a:off x="2720520" y="2027520"/>
                  <a:ext cx="2813040" cy="195120"/>
                  <a:chOff x="2720520" y="2027520"/>
                  <a:chExt cx="2813040" cy="195120"/>
                </a:xfrm>
              </p:grpSpPr>
              <p:sp>
                <p:nvSpPr>
                  <p:cNvPr id="245" name="Rectangle 17"/>
                  <p:cNvSpPr/>
                  <p:nvPr/>
                </p:nvSpPr>
                <p:spPr>
                  <a:xfrm>
                    <a:off x="2720520" y="202752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Line 18"/>
                  <p:cNvSpPr/>
                  <p:nvPr/>
                </p:nvSpPr>
                <p:spPr>
                  <a:xfrm>
                    <a:off x="5327640" y="2032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7" name="Text Box 19"/>
                <p:cNvSpPr/>
                <p:nvPr/>
              </p:nvSpPr>
              <p:spPr>
                <a:xfrm>
                  <a:off x="3476520" y="19987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sp>
              <p:nvSpPr>
                <p:cNvPr id="248" name="Text Box 20"/>
                <p:cNvSpPr/>
                <p:nvPr/>
              </p:nvSpPr>
              <p:spPr>
                <a:xfrm>
                  <a:off x="1881000" y="201168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easury</a:t>
                  </a:r>
                  <a:endParaRPr b="0" lang="en-US" sz="1200" spc="-1" strike="noStrike">
                    <a:solidFill>
                      <a:srgbClr val="000000"/>
                    </a:solidFill>
                    <a:latin typeface="Arial"/>
                  </a:endParaRPr>
                </a:p>
              </p:txBody>
            </p:sp>
            <p:sp>
              <p:nvSpPr>
                <p:cNvPr id="249" name="Text Box 21"/>
                <p:cNvSpPr/>
                <p:nvPr/>
              </p:nvSpPr>
              <p:spPr>
                <a:xfrm>
                  <a:off x="7313040" y="20116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0" name="Group 22"/>
              <p:cNvGrpSpPr/>
              <p:nvPr/>
            </p:nvGrpSpPr>
            <p:grpSpPr>
              <a:xfrm>
                <a:off x="2055240" y="2654280"/>
                <a:ext cx="5514840" cy="307080"/>
                <a:chOff x="2055240" y="2654280"/>
                <a:chExt cx="5514840" cy="307080"/>
              </a:xfrm>
            </p:grpSpPr>
            <p:sp>
              <p:nvSpPr>
                <p:cNvPr id="251" name="Text Box 23"/>
                <p:cNvSpPr/>
                <p:nvPr/>
              </p:nvSpPr>
              <p:spPr>
                <a:xfrm>
                  <a:off x="53290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0</a:t>
                  </a:r>
                  <a:endParaRPr b="0" lang="en-US" sz="1400" spc="-1" strike="noStrike">
                    <a:solidFill>
                      <a:srgbClr val="000000"/>
                    </a:solidFill>
                    <a:latin typeface="Arial"/>
                  </a:endParaRPr>
                </a:p>
              </p:txBody>
            </p:sp>
            <p:grpSp>
              <p:nvGrpSpPr>
                <p:cNvPr id="252" name="Group 24"/>
                <p:cNvGrpSpPr/>
                <p:nvPr/>
              </p:nvGrpSpPr>
              <p:grpSpPr>
                <a:xfrm>
                  <a:off x="2720520" y="2677680"/>
                  <a:ext cx="2263680" cy="205920"/>
                  <a:chOff x="2720520" y="2677680"/>
                  <a:chExt cx="2263680" cy="205920"/>
                </a:xfrm>
              </p:grpSpPr>
              <p:sp>
                <p:nvSpPr>
                  <p:cNvPr id="253" name="Rectangle 25"/>
                  <p:cNvSpPr/>
                  <p:nvPr/>
                </p:nvSpPr>
                <p:spPr>
                  <a:xfrm>
                    <a:off x="2720520" y="2677680"/>
                    <a:ext cx="2263680" cy="20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Line 26"/>
                  <p:cNvSpPr/>
                  <p:nvPr/>
                </p:nvSpPr>
                <p:spPr>
                  <a:xfrm>
                    <a:off x="4641120" y="26935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5" name="Text Box 27"/>
                <p:cNvSpPr/>
                <p:nvPr/>
              </p:nvSpPr>
              <p:spPr>
                <a:xfrm>
                  <a:off x="32014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sp>
              <p:nvSpPr>
                <p:cNvPr id="256" name="Text Box 28"/>
                <p:cNvSpPr/>
                <p:nvPr/>
              </p:nvSpPr>
              <p:spPr>
                <a:xfrm>
                  <a:off x="2055240" y="266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gal</a:t>
                  </a:r>
                  <a:endParaRPr b="0" lang="en-US" sz="1200" spc="-1" strike="noStrike">
                    <a:solidFill>
                      <a:srgbClr val="000000"/>
                    </a:solidFill>
                    <a:latin typeface="Arial"/>
                  </a:endParaRPr>
                </a:p>
              </p:txBody>
            </p:sp>
            <p:sp>
              <p:nvSpPr>
                <p:cNvPr id="257" name="Text Box 29"/>
                <p:cNvSpPr/>
                <p:nvPr/>
              </p:nvSpPr>
              <p:spPr>
                <a:xfrm>
                  <a:off x="7313040" y="26672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8" name="Group 30"/>
              <p:cNvGrpSpPr/>
              <p:nvPr/>
            </p:nvGrpSpPr>
            <p:grpSpPr>
              <a:xfrm>
                <a:off x="2179440" y="2981880"/>
                <a:ext cx="5390640" cy="307080"/>
                <a:chOff x="2179440" y="2981880"/>
                <a:chExt cx="5390640" cy="307080"/>
              </a:xfrm>
            </p:grpSpPr>
            <p:sp>
              <p:nvSpPr>
                <p:cNvPr id="259" name="Text Box 31"/>
                <p:cNvSpPr/>
                <p:nvPr/>
              </p:nvSpPr>
              <p:spPr>
                <a:xfrm>
                  <a:off x="5190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grpSp>
              <p:nvGrpSpPr>
                <p:cNvPr id="260" name="Group 32"/>
                <p:cNvGrpSpPr/>
                <p:nvPr/>
              </p:nvGrpSpPr>
              <p:grpSpPr>
                <a:xfrm>
                  <a:off x="2720520" y="3013560"/>
                  <a:ext cx="2126880" cy="190080"/>
                  <a:chOff x="2720520" y="3013560"/>
                  <a:chExt cx="2126880" cy="190080"/>
                </a:xfrm>
              </p:grpSpPr>
              <p:sp>
                <p:nvSpPr>
                  <p:cNvPr id="261" name="Rectangle 33"/>
                  <p:cNvSpPr/>
                  <p:nvPr/>
                </p:nvSpPr>
                <p:spPr>
                  <a:xfrm>
                    <a:off x="2720520" y="3013560"/>
                    <a:ext cx="2126880" cy="1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34"/>
                  <p:cNvSpPr/>
                  <p:nvPr/>
                </p:nvSpPr>
                <p:spPr>
                  <a:xfrm>
                    <a:off x="4366800" y="3013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3" name="Text Box 35"/>
                <p:cNvSpPr/>
                <p:nvPr/>
              </p:nvSpPr>
              <p:spPr>
                <a:xfrm>
                  <a:off x="3201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sp>
              <p:nvSpPr>
                <p:cNvPr id="264" name="Text Box 36"/>
                <p:cNvSpPr/>
                <p:nvPr/>
              </p:nvSpPr>
              <p:spPr>
                <a:xfrm>
                  <a:off x="2179440" y="2992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R</a:t>
                  </a:r>
                  <a:endParaRPr b="0" lang="en-US" sz="1200" spc="-1" strike="noStrike">
                    <a:solidFill>
                      <a:srgbClr val="000000"/>
                    </a:solidFill>
                    <a:latin typeface="Arial"/>
                  </a:endParaRPr>
                </a:p>
              </p:txBody>
            </p:sp>
            <p:sp>
              <p:nvSpPr>
                <p:cNvPr id="265" name="Text Box 37"/>
                <p:cNvSpPr/>
                <p:nvPr/>
              </p:nvSpPr>
              <p:spPr>
                <a:xfrm>
                  <a:off x="7313040" y="2994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66" name="Group 38"/>
              <p:cNvGrpSpPr/>
              <p:nvPr/>
            </p:nvGrpSpPr>
            <p:grpSpPr>
              <a:xfrm>
                <a:off x="1796760" y="2326680"/>
                <a:ext cx="5773320" cy="307080"/>
                <a:chOff x="1796760" y="2326680"/>
                <a:chExt cx="5773320" cy="307080"/>
              </a:xfrm>
            </p:grpSpPr>
            <p:sp>
              <p:nvSpPr>
                <p:cNvPr id="267" name="Text Box 39"/>
                <p:cNvSpPr/>
                <p:nvPr/>
              </p:nvSpPr>
              <p:spPr>
                <a:xfrm>
                  <a:off x="56023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grpSp>
              <p:nvGrpSpPr>
                <p:cNvPr id="268" name="Group 40"/>
                <p:cNvGrpSpPr/>
                <p:nvPr/>
              </p:nvGrpSpPr>
              <p:grpSpPr>
                <a:xfrm>
                  <a:off x="2720520" y="2358360"/>
                  <a:ext cx="2607120" cy="190080"/>
                  <a:chOff x="2720520" y="2358360"/>
                  <a:chExt cx="2607120" cy="190080"/>
                </a:xfrm>
              </p:grpSpPr>
              <p:sp>
                <p:nvSpPr>
                  <p:cNvPr id="269" name="Rectangle 41"/>
                  <p:cNvSpPr/>
                  <p:nvPr/>
                </p:nvSpPr>
                <p:spPr>
                  <a:xfrm>
                    <a:off x="2720520" y="2358360"/>
                    <a:ext cx="26071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42"/>
                  <p:cNvSpPr/>
                  <p:nvPr/>
                </p:nvSpPr>
                <p:spPr>
                  <a:xfrm>
                    <a:off x="4710240" y="23583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1" name="Text Box 43"/>
                <p:cNvSpPr/>
                <p:nvPr/>
              </p:nvSpPr>
              <p:spPr>
                <a:xfrm>
                  <a:off x="32011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sp>
              <p:nvSpPr>
                <p:cNvPr id="272" name="Text Box 44"/>
                <p:cNvSpPr/>
                <p:nvPr/>
              </p:nvSpPr>
              <p:spPr>
                <a:xfrm>
                  <a:off x="1796760" y="233712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keting</a:t>
                  </a:r>
                  <a:endParaRPr b="0" lang="en-US" sz="1200" spc="-1" strike="noStrike">
                    <a:solidFill>
                      <a:srgbClr val="000000"/>
                    </a:solidFill>
                    <a:latin typeface="Arial"/>
                  </a:endParaRPr>
                </a:p>
              </p:txBody>
            </p:sp>
            <p:sp>
              <p:nvSpPr>
                <p:cNvPr id="273" name="Text Box 45"/>
                <p:cNvSpPr/>
                <p:nvPr/>
              </p:nvSpPr>
              <p:spPr>
                <a:xfrm>
                  <a:off x="7313040" y="2340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74" name="Group 46"/>
              <p:cNvGrpSpPr/>
              <p:nvPr/>
            </p:nvGrpSpPr>
            <p:grpSpPr>
              <a:xfrm>
                <a:off x="1182240" y="3309840"/>
                <a:ext cx="6387840" cy="307080"/>
                <a:chOff x="1182240" y="3309840"/>
                <a:chExt cx="6387840" cy="307080"/>
              </a:xfrm>
            </p:grpSpPr>
            <p:sp>
              <p:nvSpPr>
                <p:cNvPr id="275" name="Text Box 47"/>
                <p:cNvSpPr/>
                <p:nvPr/>
              </p:nvSpPr>
              <p:spPr>
                <a:xfrm>
                  <a:off x="498492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grpSp>
              <p:nvGrpSpPr>
                <p:cNvPr id="276" name="Group 48"/>
                <p:cNvGrpSpPr/>
                <p:nvPr/>
              </p:nvGrpSpPr>
              <p:grpSpPr>
                <a:xfrm>
                  <a:off x="2720520" y="3341520"/>
                  <a:ext cx="1989720" cy="189720"/>
                  <a:chOff x="2720520" y="3341520"/>
                  <a:chExt cx="1989720" cy="189720"/>
                </a:xfrm>
              </p:grpSpPr>
              <p:sp>
                <p:nvSpPr>
                  <p:cNvPr id="277" name="Rectangle 49"/>
                  <p:cNvSpPr/>
                  <p:nvPr/>
                </p:nvSpPr>
                <p:spPr>
                  <a:xfrm>
                    <a:off x="2720520" y="3341520"/>
                    <a:ext cx="1989720" cy="18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50"/>
                  <p:cNvSpPr/>
                  <p:nvPr/>
                </p:nvSpPr>
                <p:spPr>
                  <a:xfrm>
                    <a:off x="4024080" y="3341520"/>
                    <a:ext cx="0" cy="189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9" name="Text Box 51"/>
                <p:cNvSpPr/>
                <p:nvPr/>
              </p:nvSpPr>
              <p:spPr>
                <a:xfrm>
                  <a:off x="300384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80" name="Text Box 52"/>
                <p:cNvSpPr/>
                <p:nvPr/>
              </p:nvSpPr>
              <p:spPr>
                <a:xfrm>
                  <a:off x="1182240" y="33228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udit and accounting</a:t>
                  </a:r>
                  <a:endParaRPr b="0" lang="en-US" sz="1200" spc="-1" strike="noStrike">
                    <a:solidFill>
                      <a:srgbClr val="000000"/>
                    </a:solidFill>
                    <a:latin typeface="Arial"/>
                  </a:endParaRPr>
                </a:p>
              </p:txBody>
            </p:sp>
            <p:sp>
              <p:nvSpPr>
                <p:cNvPr id="281" name="Text Box 53"/>
                <p:cNvSpPr/>
                <p:nvPr/>
              </p:nvSpPr>
              <p:spPr>
                <a:xfrm>
                  <a:off x="7313040" y="3322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82" name="Group 54"/>
              <p:cNvGrpSpPr/>
              <p:nvPr/>
            </p:nvGrpSpPr>
            <p:grpSpPr>
              <a:xfrm>
                <a:off x="1865520" y="3637080"/>
                <a:ext cx="5831640" cy="307080"/>
                <a:chOff x="1865520" y="3637080"/>
                <a:chExt cx="5831640" cy="307080"/>
              </a:xfrm>
            </p:grpSpPr>
            <p:sp>
              <p:nvSpPr>
                <p:cNvPr id="283" name="Text Box 55"/>
                <p:cNvSpPr/>
                <p:nvPr/>
              </p:nvSpPr>
              <p:spPr>
                <a:xfrm>
                  <a:off x="426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84" name="Group 56"/>
                <p:cNvGrpSpPr/>
                <p:nvPr/>
              </p:nvGrpSpPr>
              <p:grpSpPr>
                <a:xfrm>
                  <a:off x="2720880" y="3668760"/>
                  <a:ext cx="1303560" cy="190080"/>
                  <a:chOff x="2720880" y="3668760"/>
                  <a:chExt cx="1303560" cy="190080"/>
                </a:xfrm>
              </p:grpSpPr>
              <p:sp>
                <p:nvSpPr>
                  <p:cNvPr id="285" name="Rectangle 57"/>
                  <p:cNvSpPr/>
                  <p:nvPr/>
                </p:nvSpPr>
                <p:spPr>
                  <a:xfrm>
                    <a:off x="2720880" y="366876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58"/>
                  <p:cNvSpPr/>
                  <p:nvPr/>
                </p:nvSpPr>
                <p:spPr>
                  <a:xfrm>
                    <a:off x="3612600" y="36687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7" name="Text Box 59"/>
                <p:cNvSpPr/>
                <p:nvPr/>
              </p:nvSpPr>
              <p:spPr>
                <a:xfrm>
                  <a:off x="300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288" name="Text Box 60"/>
                <p:cNvSpPr/>
                <p:nvPr/>
              </p:nvSpPr>
              <p:spPr>
                <a:xfrm>
                  <a:off x="1865520" y="36500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cilities</a:t>
                  </a:r>
                  <a:endParaRPr b="0" lang="en-US" sz="1200" spc="-1" strike="noStrike">
                    <a:solidFill>
                      <a:srgbClr val="000000"/>
                    </a:solidFill>
                    <a:latin typeface="Arial"/>
                  </a:endParaRPr>
                </a:p>
              </p:txBody>
            </p:sp>
            <p:sp>
              <p:nvSpPr>
                <p:cNvPr id="289" name="Text Box 61"/>
                <p:cNvSpPr/>
                <p:nvPr/>
              </p:nvSpPr>
              <p:spPr>
                <a:xfrm>
                  <a:off x="7313760" y="365004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3</a:t>
                  </a:r>
                  <a:endParaRPr b="0" lang="en-US" sz="1200" spc="-1" strike="noStrike">
                    <a:solidFill>
                      <a:srgbClr val="000000"/>
                    </a:solidFill>
                    <a:latin typeface="Arial"/>
                  </a:endParaRPr>
                </a:p>
              </p:txBody>
            </p:sp>
          </p:grpSp>
          <p:grpSp>
            <p:nvGrpSpPr>
              <p:cNvPr id="290" name="Group 62"/>
              <p:cNvGrpSpPr/>
              <p:nvPr/>
            </p:nvGrpSpPr>
            <p:grpSpPr>
              <a:xfrm>
                <a:off x="1469160" y="4293000"/>
                <a:ext cx="6100920" cy="459000"/>
                <a:chOff x="1469160" y="4293000"/>
                <a:chExt cx="6100920" cy="459000"/>
              </a:xfrm>
            </p:grpSpPr>
            <p:sp>
              <p:nvSpPr>
                <p:cNvPr id="291" name="Text Box 63"/>
                <p:cNvSpPr/>
                <p:nvPr/>
              </p:nvSpPr>
              <p:spPr>
                <a:xfrm>
                  <a:off x="457344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292" name="Group 64"/>
                <p:cNvGrpSpPr/>
                <p:nvPr/>
              </p:nvGrpSpPr>
              <p:grpSpPr>
                <a:xfrm>
                  <a:off x="2720520" y="4382640"/>
                  <a:ext cx="1646280" cy="200520"/>
                  <a:chOff x="2720520" y="4382640"/>
                  <a:chExt cx="1646280" cy="200520"/>
                </a:xfrm>
              </p:grpSpPr>
              <p:sp>
                <p:nvSpPr>
                  <p:cNvPr id="293" name="Rectangle 65"/>
                  <p:cNvSpPr/>
                  <p:nvPr/>
                </p:nvSpPr>
                <p:spPr>
                  <a:xfrm>
                    <a:off x="2720520" y="4382640"/>
                    <a:ext cx="164628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66"/>
                  <p:cNvSpPr/>
                  <p:nvPr/>
                </p:nvSpPr>
                <p:spPr>
                  <a:xfrm>
                    <a:off x="4023720" y="43930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5" name="Text Box 67"/>
                <p:cNvSpPr/>
                <p:nvPr/>
              </p:nvSpPr>
              <p:spPr>
                <a:xfrm>
                  <a:off x="300456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96" name="Text Box 68"/>
                <p:cNvSpPr/>
                <p:nvPr/>
              </p:nvSpPr>
              <p:spPr>
                <a:xfrm>
                  <a:off x="1469160" y="4293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redit/mortg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perations</a:t>
                  </a:r>
                  <a:endParaRPr b="0" lang="en-US" sz="1200" spc="-1" strike="noStrike">
                    <a:solidFill>
                      <a:srgbClr val="000000"/>
                    </a:solidFill>
                    <a:latin typeface="Arial"/>
                  </a:endParaRPr>
                </a:p>
              </p:txBody>
            </p:sp>
            <p:sp>
              <p:nvSpPr>
                <p:cNvPr id="297" name="Text Box 69"/>
                <p:cNvSpPr/>
                <p:nvPr/>
              </p:nvSpPr>
              <p:spPr>
                <a:xfrm>
                  <a:off x="7313040" y="43693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98" name="Group 70"/>
              <p:cNvGrpSpPr/>
              <p:nvPr/>
            </p:nvGrpSpPr>
            <p:grpSpPr>
              <a:xfrm>
                <a:off x="2238840" y="3965040"/>
                <a:ext cx="5331240" cy="307080"/>
                <a:chOff x="2238840" y="3965040"/>
                <a:chExt cx="5331240" cy="307080"/>
              </a:xfrm>
            </p:grpSpPr>
            <p:sp>
              <p:nvSpPr>
                <p:cNvPr id="299" name="Text Box 71"/>
                <p:cNvSpPr/>
                <p:nvPr/>
              </p:nvSpPr>
              <p:spPr>
                <a:xfrm>
                  <a:off x="426528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00" name="Group 72"/>
                <p:cNvGrpSpPr/>
                <p:nvPr/>
              </p:nvGrpSpPr>
              <p:grpSpPr>
                <a:xfrm>
                  <a:off x="2720520" y="3996720"/>
                  <a:ext cx="1303560" cy="190080"/>
                  <a:chOff x="2720520" y="3996720"/>
                  <a:chExt cx="1303560" cy="190080"/>
                </a:xfrm>
              </p:grpSpPr>
              <p:sp>
                <p:nvSpPr>
                  <p:cNvPr id="301" name="Rectangle 73"/>
                  <p:cNvSpPr/>
                  <p:nvPr/>
                </p:nvSpPr>
                <p:spPr>
                  <a:xfrm>
                    <a:off x="2720520" y="399672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Line 74"/>
                  <p:cNvSpPr/>
                  <p:nvPr/>
                </p:nvSpPr>
                <p:spPr>
                  <a:xfrm>
                    <a:off x="3612240" y="39967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3" name="Text Box 75"/>
                <p:cNvSpPr/>
                <p:nvPr/>
              </p:nvSpPr>
              <p:spPr>
                <a:xfrm>
                  <a:off x="300456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04" name="Text Box 76"/>
                <p:cNvSpPr/>
                <p:nvPr/>
              </p:nvSpPr>
              <p:spPr>
                <a:xfrm>
                  <a:off x="2238840" y="3975480"/>
                  <a:ext cx="34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a:t>
                  </a:r>
                  <a:endParaRPr b="0" lang="en-US" sz="1200" spc="-1" strike="noStrike">
                    <a:solidFill>
                      <a:srgbClr val="000000"/>
                    </a:solidFill>
                    <a:latin typeface="Arial"/>
                  </a:endParaRPr>
                </a:p>
              </p:txBody>
            </p:sp>
            <p:sp>
              <p:nvSpPr>
                <p:cNvPr id="305" name="Text Box 77"/>
                <p:cNvSpPr/>
                <p:nvPr/>
              </p:nvSpPr>
              <p:spPr>
                <a:xfrm>
                  <a:off x="7313040" y="3978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06" name="Group 78"/>
              <p:cNvGrpSpPr/>
              <p:nvPr/>
            </p:nvGrpSpPr>
            <p:grpSpPr>
              <a:xfrm>
                <a:off x="1280520" y="5074920"/>
                <a:ext cx="6289560" cy="307080"/>
                <a:chOff x="1280520" y="5074920"/>
                <a:chExt cx="6289560" cy="307080"/>
              </a:xfrm>
            </p:grpSpPr>
            <p:sp>
              <p:nvSpPr>
                <p:cNvPr id="307" name="Text Box 79"/>
                <p:cNvSpPr/>
                <p:nvPr/>
              </p:nvSpPr>
              <p:spPr>
                <a:xfrm>
                  <a:off x="409284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08" name="Group 80"/>
                <p:cNvGrpSpPr/>
                <p:nvPr/>
              </p:nvGrpSpPr>
              <p:grpSpPr>
                <a:xfrm>
                  <a:off x="2720520" y="5095800"/>
                  <a:ext cx="891720" cy="211320"/>
                  <a:chOff x="2720520" y="5095800"/>
                  <a:chExt cx="891720" cy="211320"/>
                </a:xfrm>
              </p:grpSpPr>
              <p:sp>
                <p:nvSpPr>
                  <p:cNvPr id="309" name="Rectangle 81"/>
                  <p:cNvSpPr/>
                  <p:nvPr/>
                </p:nvSpPr>
                <p:spPr>
                  <a:xfrm>
                    <a:off x="2720520" y="5095800"/>
                    <a:ext cx="891720" cy="19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82"/>
                  <p:cNvSpPr/>
                  <p:nvPr/>
                </p:nvSpPr>
                <p:spPr>
                  <a:xfrm>
                    <a:off x="3200400" y="511668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1" name="Text Box 83"/>
                <p:cNvSpPr/>
                <p:nvPr/>
              </p:nvSpPr>
              <p:spPr>
                <a:xfrm>
                  <a:off x="285768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12" name="Text Box 84"/>
                <p:cNvSpPr/>
                <p:nvPr/>
              </p:nvSpPr>
              <p:spPr>
                <a:xfrm>
                  <a:off x="1280520" y="5087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posits operations</a:t>
                  </a:r>
                  <a:endParaRPr b="0" lang="en-US" sz="1200" spc="-1" strike="noStrike">
                    <a:solidFill>
                      <a:srgbClr val="000000"/>
                    </a:solidFill>
                    <a:latin typeface="Arial"/>
                  </a:endParaRPr>
                </a:p>
              </p:txBody>
            </p:sp>
            <p:sp>
              <p:nvSpPr>
                <p:cNvPr id="313" name="Text Box 85"/>
                <p:cNvSpPr/>
                <p:nvPr/>
              </p:nvSpPr>
              <p:spPr>
                <a:xfrm>
                  <a:off x="7313040" y="5087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14" name="Group 86"/>
              <p:cNvGrpSpPr/>
              <p:nvPr/>
            </p:nvGrpSpPr>
            <p:grpSpPr>
              <a:xfrm>
                <a:off x="1487160" y="5730120"/>
                <a:ext cx="6082920" cy="307080"/>
                <a:chOff x="1487160" y="5730120"/>
                <a:chExt cx="6082920" cy="307080"/>
              </a:xfrm>
            </p:grpSpPr>
            <p:sp>
              <p:nvSpPr>
                <p:cNvPr id="315" name="Text Box 87"/>
                <p:cNvSpPr/>
                <p:nvPr/>
              </p:nvSpPr>
              <p:spPr>
                <a:xfrm>
                  <a:off x="426420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16" name="Group 88"/>
                <p:cNvGrpSpPr/>
                <p:nvPr/>
              </p:nvGrpSpPr>
              <p:grpSpPr>
                <a:xfrm>
                  <a:off x="2720520" y="5761800"/>
                  <a:ext cx="1303560" cy="190080"/>
                  <a:chOff x="2720520" y="5761800"/>
                  <a:chExt cx="1303560" cy="190080"/>
                </a:xfrm>
              </p:grpSpPr>
              <p:sp>
                <p:nvSpPr>
                  <p:cNvPr id="317" name="Rectangle 89"/>
                  <p:cNvSpPr/>
                  <p:nvPr/>
                </p:nvSpPr>
                <p:spPr>
                  <a:xfrm>
                    <a:off x="2720520" y="57618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90"/>
                  <p:cNvSpPr/>
                  <p:nvPr/>
                </p:nvSpPr>
                <p:spPr>
                  <a:xfrm>
                    <a:off x="3612240" y="57618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9" name="Text Box 91"/>
                <p:cNvSpPr/>
                <p:nvPr/>
              </p:nvSpPr>
              <p:spPr>
                <a:xfrm>
                  <a:off x="300384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20" name="Text Box 92"/>
                <p:cNvSpPr/>
                <p:nvPr/>
              </p:nvSpPr>
              <p:spPr>
                <a:xfrm>
                  <a:off x="1487160" y="57430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ch network</a:t>
                  </a:r>
                  <a:endParaRPr b="0" lang="en-US" sz="1200" spc="-1" strike="noStrike">
                    <a:solidFill>
                      <a:srgbClr val="000000"/>
                    </a:solidFill>
                    <a:latin typeface="Arial"/>
                  </a:endParaRPr>
                </a:p>
              </p:txBody>
            </p:sp>
            <p:sp>
              <p:nvSpPr>
                <p:cNvPr id="321" name="Text Box 93"/>
                <p:cNvSpPr/>
                <p:nvPr/>
              </p:nvSpPr>
              <p:spPr>
                <a:xfrm>
                  <a:off x="7313040" y="5743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000000"/>
                    </a:solidFill>
                    <a:latin typeface="Arial"/>
                  </a:endParaRPr>
                </a:p>
              </p:txBody>
            </p:sp>
          </p:grpSp>
          <p:grpSp>
            <p:nvGrpSpPr>
              <p:cNvPr id="322" name="Group 94"/>
              <p:cNvGrpSpPr/>
              <p:nvPr/>
            </p:nvGrpSpPr>
            <p:grpSpPr>
              <a:xfrm>
                <a:off x="1396080" y="5402880"/>
                <a:ext cx="6174000" cy="307080"/>
                <a:chOff x="1396080" y="5402880"/>
                <a:chExt cx="6174000" cy="307080"/>
              </a:xfrm>
            </p:grpSpPr>
            <p:sp>
              <p:nvSpPr>
                <p:cNvPr id="323" name="Text Box 95"/>
                <p:cNvSpPr/>
                <p:nvPr/>
              </p:nvSpPr>
              <p:spPr>
                <a:xfrm>
                  <a:off x="40928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24" name="Group 96"/>
                <p:cNvGrpSpPr/>
                <p:nvPr/>
              </p:nvGrpSpPr>
              <p:grpSpPr>
                <a:xfrm>
                  <a:off x="2720520" y="5431680"/>
                  <a:ext cx="891720" cy="195120"/>
                  <a:chOff x="2720520" y="5431680"/>
                  <a:chExt cx="891720" cy="195120"/>
                </a:xfrm>
              </p:grpSpPr>
              <p:sp>
                <p:nvSpPr>
                  <p:cNvPr id="325" name="Rectangle 97"/>
                  <p:cNvSpPr/>
                  <p:nvPr/>
                </p:nvSpPr>
                <p:spPr>
                  <a:xfrm>
                    <a:off x="2720520" y="5436720"/>
                    <a:ext cx="8917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98"/>
                  <p:cNvSpPr/>
                  <p:nvPr/>
                </p:nvSpPr>
                <p:spPr>
                  <a:xfrm>
                    <a:off x="3200400" y="54316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7" name="Text Box 99"/>
                <p:cNvSpPr/>
                <p:nvPr/>
              </p:nvSpPr>
              <p:spPr>
                <a:xfrm>
                  <a:off x="28580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28" name="Text Box 100"/>
                <p:cNvSpPr/>
                <p:nvPr/>
              </p:nvSpPr>
              <p:spPr>
                <a:xfrm>
                  <a:off x="1396080" y="541332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s operations</a:t>
                  </a:r>
                  <a:endParaRPr b="0" lang="en-US" sz="1200" spc="-1" strike="noStrike">
                    <a:solidFill>
                      <a:srgbClr val="000000"/>
                    </a:solidFill>
                    <a:latin typeface="Arial"/>
                  </a:endParaRPr>
                </a:p>
              </p:txBody>
            </p:sp>
            <p:sp>
              <p:nvSpPr>
                <p:cNvPr id="329" name="Text Box 101"/>
                <p:cNvSpPr/>
                <p:nvPr/>
              </p:nvSpPr>
              <p:spPr>
                <a:xfrm>
                  <a:off x="7313040" y="541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30" name="Group 102"/>
              <p:cNvGrpSpPr/>
              <p:nvPr/>
            </p:nvGrpSpPr>
            <p:grpSpPr>
              <a:xfrm>
                <a:off x="1227240" y="4747320"/>
                <a:ext cx="6342840" cy="307080"/>
                <a:chOff x="1227240" y="4747320"/>
                <a:chExt cx="6342840" cy="307080"/>
              </a:xfrm>
            </p:grpSpPr>
            <p:sp>
              <p:nvSpPr>
                <p:cNvPr id="331" name="Text Box 103"/>
                <p:cNvSpPr/>
                <p:nvPr/>
              </p:nvSpPr>
              <p:spPr>
                <a:xfrm>
                  <a:off x="4264200" y="47473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32" name="Group 104"/>
                <p:cNvGrpSpPr/>
                <p:nvPr/>
              </p:nvGrpSpPr>
              <p:grpSpPr>
                <a:xfrm>
                  <a:off x="2720520" y="4779000"/>
                  <a:ext cx="1303560" cy="190080"/>
                  <a:chOff x="2720520" y="4779000"/>
                  <a:chExt cx="1303560" cy="190080"/>
                </a:xfrm>
              </p:grpSpPr>
              <p:sp>
                <p:nvSpPr>
                  <p:cNvPr id="333" name="Rectangle 105"/>
                  <p:cNvSpPr/>
                  <p:nvPr/>
                </p:nvSpPr>
                <p:spPr>
                  <a:xfrm>
                    <a:off x="2720520" y="47790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106"/>
                  <p:cNvSpPr/>
                  <p:nvPr/>
                </p:nvSpPr>
                <p:spPr>
                  <a:xfrm>
                    <a:off x="3749400" y="47790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35" name="Text Box 107"/>
                <p:cNvSpPr/>
                <p:nvPr/>
              </p:nvSpPr>
              <p:spPr>
                <a:xfrm>
                  <a:off x="2960640" y="4747320"/>
                  <a:ext cx="4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5</a:t>
                  </a:r>
                  <a:endParaRPr b="0" lang="en-US" sz="1400" spc="-1" strike="noStrike">
                    <a:solidFill>
                      <a:srgbClr val="000000"/>
                    </a:solidFill>
                    <a:latin typeface="Arial"/>
                  </a:endParaRPr>
                </a:p>
              </p:txBody>
            </p:sp>
            <p:sp>
              <p:nvSpPr>
                <p:cNvPr id="336" name="Text Box 108"/>
                <p:cNvSpPr/>
                <p:nvPr/>
              </p:nvSpPr>
              <p:spPr>
                <a:xfrm>
                  <a:off x="1227240" y="476028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yments operations</a:t>
                  </a:r>
                  <a:endParaRPr b="0" lang="en-US" sz="1200" spc="-1" strike="noStrike">
                    <a:solidFill>
                      <a:srgbClr val="000000"/>
                    </a:solidFill>
                    <a:latin typeface="Arial"/>
                  </a:endParaRPr>
                </a:p>
              </p:txBody>
            </p:sp>
            <p:sp>
              <p:nvSpPr>
                <p:cNvPr id="337" name="Text Box 109"/>
                <p:cNvSpPr/>
                <p:nvPr/>
              </p:nvSpPr>
              <p:spPr>
                <a:xfrm>
                  <a:off x="7313040" y="4760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grpSp>
      <p:sp>
        <p:nvSpPr>
          <p:cNvPr id="338" name="Text Box 110"/>
          <p:cNvSpPr/>
          <p:nvPr/>
        </p:nvSpPr>
        <p:spPr>
          <a:xfrm>
            <a:off x="777240" y="5985000"/>
            <a:ext cx="179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Source: </a:t>
            </a:r>
            <a:r>
              <a:rPr b="0" lang="en-GB" sz="1000" spc="-1" strike="noStrike">
                <a:solidFill>
                  <a:srgbClr val="000000"/>
                </a:solidFill>
                <a:latin typeface="Times New Roman"/>
              </a:rPr>
              <a:t>McKinsey &amp; Company</a:t>
            </a:r>
            <a:endParaRPr b="0" lang="en-US" sz="1000" spc="-1" strike="noStrike">
              <a:solidFill>
                <a:srgbClr val="000000"/>
              </a:solidFill>
              <a:latin typeface="Arial"/>
            </a:endParaRPr>
          </a:p>
        </p:txBody>
      </p:sp>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Cost Saving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0" name="Object 2"/>
          <p:cNvGraphicFramePr/>
          <p:nvPr/>
        </p:nvGraphicFramePr>
        <p:xfrm>
          <a:off x="990720" y="1219320"/>
          <a:ext cx="7086600" cy="4821120"/>
        </p:xfrm>
        <a:graphic>
          <a:graphicData uri="http://schemas.openxmlformats.org/presentationml/2006/ole">
            <p:oleObj progId="Word.Document.12" r:id="rId1" spid="">
              <p:embed/>
              <p:pic>
                <p:nvPicPr>
                  <p:cNvPr id="341" name="Object 2" descr=""/>
                  <p:cNvPicPr/>
                  <p:nvPr/>
                </p:nvPicPr>
                <p:blipFill>
                  <a:blip r:embed="rId2"/>
                  <a:stretch/>
                </p:blipFill>
                <p:spPr>
                  <a:xfrm>
                    <a:off x="990720" y="1219320"/>
                    <a:ext cx="7086600" cy="4821120"/>
                  </a:xfrm>
                  <a:prstGeom prst="rect">
                    <a:avLst/>
                  </a:prstGeom>
                  <a:ln w="9360">
                    <a:solidFill>
                      <a:srgbClr val="ff9933"/>
                    </a:solidFill>
                    <a:miter/>
                  </a:ln>
                </p:spPr>
              </p:pic>
            </p:oleObj>
          </a:graphicData>
        </a:graphic>
      </p:graphicFrame>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344" name="Group 3"/>
          <p:cNvGrpSpPr/>
          <p:nvPr/>
        </p:nvGrpSpPr>
        <p:grpSpPr>
          <a:xfrm>
            <a:off x="569880" y="1600200"/>
            <a:ext cx="7349400" cy="4827240"/>
            <a:chOff x="569880" y="1600200"/>
            <a:chExt cx="7349400" cy="4827240"/>
          </a:xfrm>
        </p:grpSpPr>
        <p:grpSp>
          <p:nvGrpSpPr>
            <p:cNvPr id="345" name="Group 4"/>
            <p:cNvGrpSpPr/>
            <p:nvPr/>
          </p:nvGrpSpPr>
          <p:grpSpPr>
            <a:xfrm>
              <a:off x="853200" y="1752120"/>
              <a:ext cx="7066080" cy="4675320"/>
              <a:chOff x="853200" y="1752120"/>
              <a:chExt cx="7066080" cy="4675320"/>
            </a:xfrm>
          </p:grpSpPr>
          <p:graphicFrame>
            <p:nvGraphicFramePr>
              <p:cNvPr id="346" name="Object 5"/>
              <p:cNvGraphicFramePr/>
              <p:nvPr/>
            </p:nvGraphicFramePr>
            <p:xfrm>
              <a:off x="853200" y="1752120"/>
              <a:ext cx="6614640" cy="4675320"/>
            </p:xfrm>
            <a:graphic>
              <a:graphicData uri="http://schemas.openxmlformats.org/presentationml/2006/ole">
                <p:oleObj r:id="rId1" spid="">
                  <p:embed/>
                  <p:pic>
                    <p:nvPicPr>
                      <p:cNvPr id="347" name="Object 5" descr=""/>
                      <p:cNvPicPr/>
                      <p:nvPr/>
                    </p:nvPicPr>
                    <p:blipFill>
                      <a:blip r:embed="rId2"/>
                      <a:stretch/>
                    </p:blipFill>
                    <p:spPr>
                      <a:xfrm>
                        <a:off x="853200" y="1752120"/>
                        <a:ext cx="6614640" cy="4675320"/>
                      </a:xfrm>
                      <a:prstGeom prst="rect">
                        <a:avLst/>
                      </a:prstGeom>
                      <a:ln w="0">
                        <a:noFill/>
                      </a:ln>
                    </p:spPr>
                  </p:pic>
                </p:oleObj>
              </a:graphicData>
            </a:graphic>
          </p:graphicFrame>
          <p:sp>
            <p:nvSpPr>
              <p:cNvPr id="348" name="Text Box 6"/>
              <p:cNvSpPr/>
              <p:nvPr/>
            </p:nvSpPr>
            <p:spPr>
              <a:xfrm>
                <a:off x="3848760" y="25884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9" name="Text Box 7"/>
              <p:cNvSpPr/>
              <p:nvPr/>
            </p:nvSpPr>
            <p:spPr>
              <a:xfrm>
                <a:off x="6097320" y="42606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50" name="Text Box 8"/>
              <p:cNvSpPr/>
              <p:nvPr/>
            </p:nvSpPr>
            <p:spPr>
              <a:xfrm>
                <a:off x="3149640" y="289224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51" name="Text Box 9"/>
              <p:cNvSpPr/>
              <p:nvPr/>
            </p:nvSpPr>
            <p:spPr>
              <a:xfrm>
                <a:off x="3149640" y="426060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20%</a:t>
                </a:r>
                <a:endParaRPr b="0" lang="en-US" sz="2000" spc="-1" strike="noStrike">
                  <a:solidFill>
                    <a:srgbClr val="000000"/>
                  </a:solidFill>
                  <a:latin typeface="Arial"/>
                </a:endParaRPr>
              </a:p>
            </p:txBody>
          </p:sp>
          <p:sp>
            <p:nvSpPr>
              <p:cNvPr id="352" name="Text Box 10"/>
              <p:cNvSpPr/>
              <p:nvPr/>
            </p:nvSpPr>
            <p:spPr>
              <a:xfrm>
                <a:off x="5454360" y="37285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53" name="Text Box 11"/>
              <p:cNvSpPr/>
              <p:nvPr/>
            </p:nvSpPr>
            <p:spPr>
              <a:xfrm>
                <a:off x="3149640" y="21322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35%</a:t>
                </a:r>
                <a:endParaRPr b="0" lang="en-US" sz="2000" spc="-1" strike="noStrike">
                  <a:solidFill>
                    <a:srgbClr val="000000"/>
                  </a:solidFill>
                  <a:latin typeface="Arial"/>
                </a:endParaRPr>
              </a:p>
            </p:txBody>
          </p:sp>
          <p:sp>
            <p:nvSpPr>
              <p:cNvPr id="354" name="Text Box 12"/>
              <p:cNvSpPr/>
              <p:nvPr/>
            </p:nvSpPr>
            <p:spPr>
              <a:xfrm>
                <a:off x="3854520" y="3880440"/>
                <a:ext cx="1697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Operational</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including</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Branches)</a:t>
                </a:r>
                <a:endParaRPr b="0" lang="en-US" sz="2000" spc="-1" strike="noStrike">
                  <a:solidFill>
                    <a:srgbClr val="000000"/>
                  </a:solidFill>
                  <a:latin typeface="Arial"/>
                </a:endParaRPr>
              </a:p>
            </p:txBody>
          </p:sp>
        </p:grpSp>
        <p:sp>
          <p:nvSpPr>
            <p:cNvPr id="355" name="Text Box 13"/>
            <p:cNvSpPr/>
            <p:nvPr/>
          </p:nvSpPr>
          <p:spPr>
            <a:xfrm>
              <a:off x="569880" y="6121800"/>
              <a:ext cx="455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Source: Corporate Advisory Board, First Manhattan Consulting Group</a:t>
              </a:r>
              <a:endParaRPr b="0" lang="en-US" sz="1200" spc="-1" strike="noStrike">
                <a:solidFill>
                  <a:srgbClr val="000000"/>
                </a:solidFill>
                <a:latin typeface="Arial"/>
              </a:endParaRPr>
            </a:p>
          </p:txBody>
        </p:sp>
        <p:sp>
          <p:nvSpPr>
            <p:cNvPr id="356" name="Text Box 14"/>
            <p:cNvSpPr/>
            <p:nvPr/>
          </p:nvSpPr>
          <p:spPr>
            <a:xfrm>
              <a:off x="2503800" y="160020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n-market vs out-of market cost savings</a:t>
              </a:r>
              <a:endParaRPr b="0" lang="en-US" sz="2400" spc="-1" strike="noStrike">
                <a:solidFill>
                  <a:srgbClr val="000000"/>
                </a:solidFill>
                <a:latin typeface="Arial"/>
              </a:endParaRPr>
            </a:p>
          </p:txBody>
        </p:sp>
      </p:grpSp>
      <p:sp>
        <p:nvSpPr>
          <p:cNvPr id="357" name="Text Box 15"/>
          <p:cNvSpPr/>
          <p:nvPr/>
        </p:nvSpPr>
        <p:spPr>
          <a:xfrm>
            <a:off x="323280" y="2681280"/>
            <a:ext cx="135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Percentag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Cost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Reduction</a:t>
            </a:r>
            <a:endParaRPr b="0" lang="en-US" sz="2000" spc="-1" strike="noStrike">
              <a:solidFill>
                <a:srgbClr val="000000"/>
              </a:solidFill>
              <a:latin typeface="Arial"/>
            </a:endParaRPr>
          </a:p>
        </p:txBody>
      </p:sp>
      <p:sp>
        <p:nvSpPr>
          <p:cNvPr id="3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Synergie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Merger Example Chemical and Manufacturers Hanover</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rivals with overlapping operation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major cost savings were anticipated from the merger.  Over 80 branches were closed and over 6,000 employees displaced following the merger.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in excess of $750 million were anticipated by the end of 1994.  The merged entity appeared to be on track to meet this goal (Cline, 1992);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very similar organizations with an abundance of common interests.  Both were commercial banks headquartered in New York City and were competitors in one of the America's most competitive banking market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hared the same markets and banking philosophies.  Both were big city banks specializing in corporate banking and competed for the business of the biggest and strongest companies in the markets they shared; and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Merger Continued</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mical/Manufacturers merger was viewed favorably by the market, as reflected in the stock return of 88.06% for the first year following the merger.  For the 3-year period of 1991-1994, the stock of Chemical Bank outperformed other super-regional banks and the KBW 50 index easily with a handsome annual return of 33.9%.  The average annual increase for the large national banks in the study for the period was a comparable 36%.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st Practices Synergies</a:t>
            </a:r>
            <a:endParaRPr b="1" lang="en-US" sz="2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Synergies</a:t>
            </a:r>
            <a:endParaRPr b="1" lang="en-US" sz="2000" spc="-1" strike="noStrike">
              <a:solidFill>
                <a:srgbClr val="000000"/>
              </a:solidFill>
              <a:latin typeface="Arial"/>
            </a:endParaRPr>
          </a:p>
        </p:txBody>
      </p:sp>
      <p:sp>
        <p:nvSpPr>
          <p:cNvPr id="3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ractices synergies come about from using more efficient cost structures in the new compan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ergies can be computed b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costs of running compan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 of cost per customer, cost per transaction etc.</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tive ratio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remental Approach – SDG&amp;E Merger</a:t>
            </a:r>
            <a:endParaRPr b="1" lang="en-US" sz="2000" spc="-1" strike="noStrike">
              <a:solidFill>
                <a:srgbClr val="000000"/>
              </a:solidFill>
              <a:latin typeface="Arial"/>
            </a:endParaRPr>
          </a:p>
        </p:txBody>
      </p:sp>
      <p:pic>
        <p:nvPicPr>
          <p:cNvPr id="36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Savings Using Incremental Approach</a:t>
            </a:r>
            <a:endParaRPr b="1" lang="en-US" sz="2000" spc="-1" strike="noStrike">
              <a:solidFill>
                <a:srgbClr val="000000"/>
              </a:solidFill>
              <a:latin typeface="Arial"/>
            </a:endParaRPr>
          </a:p>
        </p:txBody>
      </p:sp>
      <p:pic>
        <p:nvPicPr>
          <p:cNvPr id="369" name="Picture 4" descr=""/>
          <p:cNvPicPr/>
          <p:nvPr/>
        </p:nvPicPr>
        <p:blipFill>
          <a:blip r:embed="rId1"/>
          <a:stretch/>
        </p:blipFill>
        <p:spPr>
          <a:xfrm>
            <a:off x="1752480" y="1219320"/>
            <a:ext cx="5105520" cy="485280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C and PE Comparison Problems</a:t>
            </a:r>
            <a:endParaRPr b="1" lang="en-US" sz="1800" spc="-1" strike="noStrike">
              <a:solidFill>
                <a:srgbClr val="000000"/>
              </a:solidFill>
              <a:latin typeface="Arial"/>
            </a:endParaRPr>
          </a:p>
        </p:txBody>
      </p:sp>
      <p:sp>
        <p:nvSpPr>
          <p:cNvPr id="3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some businesses thrive on certain inherent (history, name association, appeal, etceteras) qualities that yield premium returns. Imagine trying to synergise on brand value by combining Versace and Marks &amp; Spencer. In this case, the grapes grew on Gaul soil – will it be the same in Rome. Would this conquest destroy value for both rather than to create?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more difficult in an international deal</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fat not the muscle</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predicted synergies because of vested interest in making the transaction look goo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aken to achieve the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achieve the synergies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ome before the saving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Mix and Capacity Amount</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Network Configuration</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ailroads each have a single track running between A and B. Customers shipping products in one direction sometimes experience delays when a train runs in the other direction on the same track, necessitating complex siding work. The railroads propose to merge, and offer as an efficiency that they will use one track exclusively for A-to-B traffic, and the other for B-to-A. It is plausible that this side-by-side complementary specialization is an efficiency. Moreover, neither firm alone can offer both an A-to-B-only product and a B-to-A-only product, so if customers demand the ability to get shipments in both directions from a single firm, then the efficiency is a synergy. It is less clear whether it is a synergy if customers would be willing to buy these products separately, because then either firm could unilaterally specialize and thus offer a superior product in its chosen direction. </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3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Mix and Capacity Amoun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in Standalone and Combined Cas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vings from Optimizing</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 Solver</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Synergies - Volume </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Citigroup 2002</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the merger was about cross-marketing and providing better services to clien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off parts of the business because “the cross-selling synergies are not really working well”</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Synergies - Definition</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in new or existing markets, arising from the combination of the two firms. This would be case, for instance, when a US consumer products firm acquires an emerging market firm, with an established distribution network and brand name recognition, and uses these strengths to increase sales of its produc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frequently buys young technology companies in its business domain, and uses its skill in converting promising technology into commercial products to generate incremental value. This skill, which requires a blend of technological and marketing skill, is more difficult to replicate.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ew Product Synergie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firms, each of which is a significant producer of word processing software, produce rather different products. Firm A produces a fast but stripped-down text processor, “ASCII Alphabet,” with very limited features and font supports. Firm B produces a powerful but hard-to-use desktop publishing package, “Beauteous Bitmap.” When the products are introduced, the firms perceive themselves as being in unrelated markets. Two years later, the firms become aware that a growing number of end-users use Alphabet to draft documents and then import the files into Beauteous. This process is sometimes fraught with problems, however, because of the very different file formats, and customers increasingly complain. Engineers from the two firms meet to work on improving compatibility. These technical meetings, however, are increasingly canceled or postponed at management’s urging, as each firm’s marketing department starts to report that users perceive the products as being competitors. The firms then propose to merge, and claim that improved interoperability will be an efficiency of the merger.  Clearly, improved interoperability would be an efficiency, and (if each firm keeps its file format proprietary and subject to change) one that neither firm could achieve unilaterally: in other words, a synerg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Synergies – Retail Example</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the two companies is conservatively estimated to generate $500 million of annualized cost and revenue synergies to be fully realized by the end of the third year after closing. The transaction, after giving effect to estimated synergies, is expected to be significantly accretive to earnings per share in the first year before one-time restructuring costs.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ies expect to realize approximately $200 million in incremental gross margin from revenue synergies by capitalizing on cross-selling opportunities between Kmart and Sears’ proprietary brands and by converting a substantial number of off-mall Kmart stores to the Sears nameplate in addition to the 50 Kmart stores Sears acquired earlier this year.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 expects to achieve annual cost savings of over $300 million principally through improved merchandising and non-merchandising purchasing scale as well as improved supply chain, administrative and other operational efficiencies. In addition, the combined company will complete a full store asset review as part of a plan to monetize non-strategic real estate assets as appropriat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Reduction and Other Synergi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HSBC and Household International 2002</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is merger brings together is one of the world’s biggest depositors with one of the world’s biggest lenders.  HSBC will be able to fund Household’s loan book with its own deposited funds and will bring massive synergies.  There will also be significant cross-selling opportunit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ying unjustified premiums is tantamount to making charitable contributions to random passers-by, never to be recouped by the buying company no matter how long the acquisition is held.”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OWER: “Suppose you are running at 3 mph, but are required to run 4 mph next year and 5 mph the year after. Synergy would mean running even harder than this expectation while competitors supply a head wind. Paying a premium for synergy – that is, for the right to run harder – is like putting on a heavy pack. Meanwhile, the more you delay running harder, the higher the incline is set. This is the acquisition game.”</a:t>
            </a:r>
            <a:endParaRPr b="0" lang="en-US" sz="1800" spc="-1" strike="noStrike">
              <a:solidFill>
                <a:srgbClr val="000000"/>
              </a:solidFill>
              <a:latin typeface="Arial"/>
            </a:endParaRPr>
          </a:p>
          <a:p>
            <a:pPr marL="3477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4"/>
          <p:cNvSpPr/>
          <p:nvPr/>
        </p:nvSpPr>
        <p:spPr>
          <a:xfrm>
            <a:off x="1523880" y="4648320"/>
            <a:ext cx="5562720" cy="73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Target valuation already assumes growth and may even have optimistic assump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outperform these assumptions and grow even faster</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ynergie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ynergies, on the other hand, are more focused and include tax benefits, diversification, a higher debt capacity and uses for excess cash.</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increase, because when two firms combine, their earnings and cash flows may become more stable and predictable. This, in turn, allows them to borrow more than they could have as individual entities, which creates a tax benefit for the combined firm. This tax benefit usually manifests itself as a lower cost of capital for the combined firm.</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benefits can arise either from the acquisition taking advantage of tax laws to write up the target company’s assets or from the use of net operating losses to shelter income. Thus, a profitable firm that acquires a money-losing firm may be able to use the net operating losses of the latter to reduce its tax burden. Alternatively, a firm that is able to increase its depreciation charges after an acquisition will save in taxes and increase its value.</a:t>
            </a:r>
            <a:endParaRPr b="0" lang="en-US" sz="1600" spc="-1" strike="noStrike">
              <a:solidFill>
                <a:srgbClr val="000000"/>
              </a:solidFill>
              <a:latin typeface="Arial"/>
            </a:endParaRPr>
          </a:p>
          <a:p>
            <a:pPr marL="347760" indent="0">
              <a:lnSpc>
                <a:spcPct val="90000"/>
              </a:lnSpc>
              <a:spcBef>
                <a:spcPts val="176"/>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s of net operating loss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y-backs and carry-forwar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may be prevented if the IRS believes the sole purpose is to avoid tax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used debt capacity</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fu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divide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urchase shar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another firm</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way and Morrison – Horizontal Merger</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mler/Chrysler Case Study</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98: Agree to merger – valuation of Chrysler is $38 Bill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998: Deal complet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999: Management restructure at Chrysler</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Schrempp sole chairman; profit warning</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0: Continued pressure in U.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ational given is exactly the reason so many observers gasped in surprise; there is almost no overlap between the product ranges.  Put bluntly, the deal gives Chrysler the move up-market it craves, while Daimler gets a mass market brand which does not tarnish the precious Mercedes marque.”  The Tim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Puzzle</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executives, investment bankers and consultants so often recommend that acquiring firms pay more for a target company than anyone else would pa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zac: “Experience shows that merger synergies are difficult to attain and their size can be disappoint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bidding for Synergies (in the heat of the deal; can find benchmarks that justify the valuation; the winner’s cur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cquisition Integration</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10-02-08T07:52:49Z</dcterms:modified>
  <cp:revision>170</cp:revision>
  <dc:subject>CLO Course</dc:subject>
  <dc:title>CDO - Introduction</dc:title>
</cp:coreProperties>
</file>